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86D-7CF9-4A03-8F0C-BE24D968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DE9-7090-424F-89B3-FA73F13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BDF-CE0C-4DD0-984C-1500783D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9D7-503C-437F-88C6-F3B941401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55146-3143-4465-93C6-6201F4EF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1963-8589-48C8-B837-00CDCD54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5273-210B-4864-BACE-4E030089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7244-74DA-4EC5-8294-451FE437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1BF5-DDBC-431E-B019-0FAF9BE0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E781-C27E-4FCD-9F91-3653CC9E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6CD1-B2A2-4C26-AD6E-911CE8A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6D9-07D0-491B-BAF4-284DD8A7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9C9-C072-42EB-9781-2E6D1389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F5D8-DC87-4AA3-84A0-A6092740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EFA1-5385-433F-B1B2-F313F378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E676-C3A6-42F1-A187-7BA6AD2C1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25B3-E55F-4FD3-81DE-84E39FA4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AB5-9878-4330-AD71-40BA606C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2E0-4C91-43EC-8371-3CB8BC75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C61-4D88-4BA8-BDF0-A7E48FB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853-D930-427E-A333-72A4DDAB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08A-A80D-4225-B822-01BA622C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634F-8592-4FF9-BF4E-5A1B6E30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6CB-4A8B-4E0D-BB7B-1CD37630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766A-D1CD-4FB8-AD58-ACCDDAF50C30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E728-EC34-40E3-878D-DFF0F5C6C221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file:///formazione%20ins%20sostegno.ppt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Arial"/>
              </a:rPr>
              <a:t>LA DIAGNOSI FUNZIONAL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scrizione analitica della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compromissione funzionale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ello stato psico-fisico dell’alunno in situazione di handicap, al momento in cui accede alla struttura sanitar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Funzionale a un intervento educativo e didattico adeguat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Tiene conto delle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</a:rPr>
              <a:t>potenzialità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relative alle are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cogni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ffettiva-relazion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linguist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sensori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motorio-prass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neuropsicologic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utonomia personale e soci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Alla sua definizione provvedono gli operatori sanitar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Arial"/>
              </a:rPr>
              <a:t>IL PROFILO DINAMICO FUNZIONALE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’ un documento successivo alla diagnosi funzionale e a un primo periodo di inserimento scolastic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Indica il prevedibile livello di sviluppo  dell’alunno nei tempi brevi (6 mesi) e medi (2 anni). Alle aree della DF si aggiunge quella dell’apprendiment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’ redatto dagli operatori sanitari, dai docenti curricolari e specializzati, con la collaborazione dei familiar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Fornisce il quadro globale dell’evoluzione e del percorso che operatori e insegnanti compion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ostituisce una guida per la progettazione dell’intervento, evidenziando i bisogni dell’alunno e le sue risorse e indicando le strategie utili per attivarle e valorizzar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Viene aggiornato a conclusione della scuola materna, elementare e media e durante il corso di istruzione seconda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Momenti di valutazione degli interventi alla fine della II e IV elementare, della II media, del biennio delle superiori e della IV della scuola seconda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Arial"/>
              </a:rPr>
              <a:t>IL PIANO EDUCATIVO INDIVIDUALIZZAT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964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E’ il documento in cui vengono descritti gli interventi predisposti in un determinato periodo di tempo, ai fini della realizzazione del diritto all’educazione e all’istruzio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E’ redatto dagli operatori sanitari, dai docenti curricolari e di sostegno, in collaborazione con i genitor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Ogni componente propone, ciascuno in base alla propria esperienza, alla diagnosi funzionale e al profilo dinamico funzionale, gli interventi maggiormente funzionali, che vengono integrati fra di loro per giungere alla redazione di un PEI correlato alle disabilità, difficoltà e potenzialità dell’alun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Viene verificato preferibilmente in modo correlato alla ripartizione dell’anno scolastic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4">
            <a:hlinkClick r:id="rId5"/>
          </p:cNvPr>
          <p:cNvSpPr/>
          <p:nvPr/>
        </p:nvSpPr>
        <p:spPr>
          <a:xfrm>
            <a:off x="8244000" y="623736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10800"/>
                </a:moveTo>
                <a:lnTo>
                  <a:pt x="22129" y="3794"/>
                </a:lnTo>
                <a:lnTo>
                  <a:pt x="22129" y="17806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4:54:22Z</dcterms:created>
  <dc:creator>AP</dc:creator>
  <dc:description/>
  <dc:language>en-US</dc:language>
  <cp:lastModifiedBy>Utente</cp:lastModifiedBy>
  <dcterms:modified xsi:type="dcterms:W3CDTF">2009-05-05T15:16:16Z</dcterms:modified>
  <cp:revision>9</cp:revision>
  <dc:subject/>
  <dc:title>LA DIAGNOSI FUNZIONALE</dc:title>
</cp:coreProperties>
</file>